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A74-976C-4316-ABF8-9AF409B1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DDF-D185-4FE6-A699-2D57B9E1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933-DA81-47A7-BFF2-0BA419C9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0CA-095C-4233-B5BD-A35514A0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DED-3165-40DD-9B75-DD3863A6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B06-377E-4506-94AE-9004D9D0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FA5-0BB8-4567-B878-31251DAA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415-C909-4E92-8580-19F72A75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D48-5D24-4101-8F01-5D4E0EE4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BD8-A337-4941-86CA-0CF260A1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9E6-8225-4122-96FD-9DBEFDC3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58C-D854-467C-829C-6FC03BD0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C65C-8BAA-444A-8864-2DEBE46C4E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210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22520" y="189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猜谜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75320" y="2781360"/>
            <a:ext cx="33526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边说边城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 rot="21154800">
            <a:off x="3629160" y="216072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00ff"/>
                </a:solidFill>
                <a:latin typeface="Arial"/>
                <a:ea typeface="隶书"/>
              </a:rPr>
              <a:t>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00000" y="1268280"/>
            <a:ext cx="6934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一人说话（打一字）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 rot="21154800">
            <a:off x="5500800" y="2426760"/>
            <a:ext cx="144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900ff"/>
                </a:solidFill>
                <a:latin typeface="Arial"/>
                <a:ea typeface="隶书"/>
              </a:rPr>
              <a:t>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6360" y="5737320"/>
            <a:ext cx="1727280" cy="1120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46080" y="333360"/>
            <a:ext cx="737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知识竞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656000"/>
            <a:ext cx="813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填空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斗门一中《学生考试管理处罚规定》共有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斗门一中《学生考试管理处罚规定》由珠海市斗门区第一中学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负责解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考生在两科以上考试中有《学生考试管理处罚规定》第一、第二条所列情形之一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__________________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19680" y="2997360"/>
            <a:ext cx="25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教导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06064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937040"/>
            <a:ext cx="52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考科目的考试成绩无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360" y="5692680"/>
            <a:ext cx="1798920" cy="116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46080" y="333360"/>
            <a:ext cx="737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知识竞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1741680"/>
            <a:ext cx="813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二、选择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考生有下列行为之一的，扣除该所得分数的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0%:                                        (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携带规定以外的物品进入试室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在试卷规定以外的地方写姓名、考试号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接传答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D.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威胁考试工作人员安全或公然侮辱、诽谤、诬陷考试工作人员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2222640"/>
            <a:ext cx="10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6360" y="6111720"/>
            <a:ext cx="1150920" cy="74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46080" y="333360"/>
            <a:ext cx="737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知识竞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828440"/>
            <a:ext cx="813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二、选择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以下各项中不属于第四条中规定的取消本次考试的资格，并通报批评的一项是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                           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交头接耳，互打暗号手势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有意将自己的答卷、答题卡让他人抄袭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不按指定的考场、试室和座位号入座应试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D.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考试期间撕毁试卷、答卷、答题卡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2583000"/>
            <a:ext cx="10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46080" y="333360"/>
            <a:ext cx="737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知识竞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52424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三、简答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有下列行为之一的，我校《学生考试管理处罚规定》的处罚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、携带寻呼机、移动电话以及其它通讯工具进入试室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、用规定以外的笔作答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、扰乱考场及考试有关工作场所秩序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5880" y="349632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取消本次考试的资格，并通报批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6360" y="6157800"/>
            <a:ext cx="1079640" cy="700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45880" y="4504320"/>
            <a:ext cx="34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扣除该学科成绩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50%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400" y="562896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取消本次考试资格，根据情节的严重程度给予相应的纪律处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457200"/>
            <a:ext cx="5562720" cy="764280"/>
          </a:xfrm>
          <a:prstGeom prst="rect">
            <a:avLst/>
          </a:prstGeom>
          <a:noFill/>
          <a:ln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宣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447920"/>
            <a:ext cx="80773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我作为斗门一中的学生，我珍惜我的荣誉，继承诚实守信的美德，将严格遵守考试的有关规定，遵守考场纪律，维护考场秩序，做一名诚实守信的中学生，努力学习，考出水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宣誓人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· · 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00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22480" y="105876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高一（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12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）班考风考纪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781360"/>
            <a:ext cx="775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黑体"/>
              </a:rPr>
              <a:t>诚实应考    诚信做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518796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006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月７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56000" y="1916280"/>
            <a:ext cx="3504960" cy="15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什么是诚信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15920"/>
            <a:ext cx="352908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诚信故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58920" y="1916280"/>
            <a:ext cx="3998880" cy="146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狼来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03280" y="3716280"/>
            <a:ext cx="3097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曾子杀猪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3316320"/>
            <a:ext cx="181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51120" y="1341360"/>
            <a:ext cx="4995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诚信是人最美丽的外套，是心灵最圣洁的鲜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诚信是你价格不菲的鞋子，踏遍千山万水，质量也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永恒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诚信像一面镜子，一旦打破，你的人格就会出现裂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诚信是道路，随着开拓者的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步延伸；诚信是智慧，随着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者的求索积累；诚信是成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着奋进者的拼搏临近；诚信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财富的种子，只要你诚心种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能找到打开金库的钥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诚信是做人之根本，立业之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创起诚信校园，树起诚信学风，成为诚信学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75708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为什么要考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816200"/>
            <a:ext cx="82296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测试你对某门课的掌握程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测试你的学习技巧和记忆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评估教师的教学质量，了解哪些教得不错、哪些需要改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测试你是否诚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619280" y="1844640"/>
            <a:ext cx="5761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诚信考试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492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8748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38320" y="1874880"/>
            <a:ext cx="2610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偷看别人试卷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与同学讨论试题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传纸条或者把资料写在衣服、手绢、身体上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;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使用通讯工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835280" y="62064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常见的作弊行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556000" y="955800"/>
            <a:ext cx="259236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作弊的后果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"/>
          <p:cNvSpPr/>
          <p:nvPr/>
        </p:nvSpPr>
        <p:spPr>
          <a:xfrm>
            <a:off x="2323080" y="2060640"/>
            <a:ext cx="423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通报批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过处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容易养成作弊的习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家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师有负罪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了在大家心目中的形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失去了老师和同学对你的信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4:34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6:18Z</dcterms:modified>
  <cp:revision>1</cp:revision>
  <dc:subject>主题班会课件(分28大类): http://shop62905894.taobao.com</dc:subject>
  <dc:title>主题班会课件(分28大类): http://shop62905894.taobao.com</dc:title>
</cp:coreProperties>
</file>